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3B827-F29F-4A4A-89E5-315833F1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00AAF-F5C0-4AFC-A7C7-6B0A287E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46D41-DAB3-420F-B478-E2672B95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EFACB-DE30-4349-917B-7FDF4A9A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6ACB9-A9E6-4FAD-A297-69F0D69B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1A714-78B8-45E2-A3A1-E2248D33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FA2FC-97A0-454D-A0AD-7D6233B3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DF9AD-E8D1-43C0-AD51-8F3F1EAD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5BF15-981D-416F-96F8-7AE2BE65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26133-3493-4682-9373-3A2F0D5F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3643B-1069-4012-916C-636FFC71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8B63F-2B78-47F5-8FA0-62FA6AF5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61F2-6C71-4898-BFB1-DCC257CC7A0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38080" y="2133720"/>
          <a:ext cx="693432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9343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37040" y="303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1840" y="4266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560" y="434304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4440" y="251424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un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7360" y="12942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epared by Fried Augenbro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9320" y="1981080"/>
          <a:ext cx="2809800" cy="14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981080"/>
                    <a:ext cx="280980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34120" y="4800600"/>
          <a:ext cx="1962000" cy="163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4800600"/>
                    <a:ext cx="19620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3520" y="1293840"/>
            <a:ext cx="6705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1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is from a non-managed ‘upstream’ structural layout actor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the file describes an analysis model of a simple 2D frame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385440"/>
            <a:ext cx="7619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2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the result of three managed data transactions by Organization 1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import of File 1 with a STEP file im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load data with a CIS/2 Data Management Compliant (DMC) application SoftX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2 with managed data using the SoftX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9720" y="357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352680" y="3352680"/>
          <a:ext cx="2028960" cy="138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352680"/>
                    <a:ext cx="2028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1286640"/>
            <a:ext cx="792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3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contains the result of three managed data transactions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new data: cross-sections of the two columns and the beam. This is done with the DMC application Soft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modifications of the imported analysis model to allow the inclusion of the element cross section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3 with managed data using the SoftY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93640" y="4179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Eastman</cp:lastModifiedBy>
  <dcterms:modified xsi:type="dcterms:W3CDTF">2001-10-31T03:41:38Z</dcterms:modified>
  <cp:revision>5</cp:revision>
  <dc:subject/>
  <dc:title>No Slide Title</dc:title>
</cp:coreProperties>
</file>